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46E8-D958-4F9B-9B7A-FF8B923E2B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втор: Игнатова Е.С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1057-A432-4E1E-8DD5-B3499E1DFE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5DDE-06BE-4FEC-B574-162C285518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CBE0-F231-43BF-9294-CE59E66AE9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BE30-BBDB-44E5-B95D-3DC8494421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000C-E40C-42F9-9B30-0450BC8214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E4B2-B722-48BD-87B9-4303E17590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180 Н  Б) 80 Н  В) 360 Н  Г) 240 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7D19-3F9D-4613-9DDA-690E77C592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Два тела масс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находятся друг от друга на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итягиваются с сил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ему равна сила притяжения тел массой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4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, находящихся на том же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  Б) 2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4</a:t>
            </a:r>
            <a:r>
              <a:rPr b="0" lang="en-US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Г) 8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DA8-1DF6-4BE2-928B-4EE3E9F348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500 Н  Б) 1000 Н  В) 2000 Н  Г) 4000 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4AE8-3363-472C-A8C5-F7A3F779B6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из приведенных утверждений верны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Сила всемирного тяготения удерживает планеты на их орбитах вокруг Солн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Если на тело не действует сила тяжести, то тело находится в состоянии невесо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EFD6-649F-413C-B8B4-472E6D923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равен 0       Б) непрерывно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остоянен и равен ускорению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постоянен и много меньше ускорения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7B48-EF2B-45AB-9190-33D98A6520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744-3BE9-4A95-9951-95D2D8FA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8F2-E696-486F-95D4-39AE100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157-7856-4C9E-A3A2-34C2ADD5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2CC-4A54-48E8-B958-62E3413F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0F6-3393-4CCD-A77D-0F1ABF86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EFE-24CF-41AA-8CA0-F1558616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CDE-BB65-4824-B193-4517255C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E97-F99A-43E1-BB64-BFC46F9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6C3-5CB7-4AA8-8354-1C1C3A13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133-8E8D-42B5-AE06-104DC77B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BD0-BE19-44D6-8A3C-A1E87053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2BF-3BE3-462B-8B43-860FC7DB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AB1D-2158-4BF6-AD1E-A5651BAB7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600200" y="121932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втор: Игнатова Е.С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14400" y="2362320"/>
            <a:ext cx="7548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4111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28600" y="3710160"/>
            <a:ext cx="87012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981080" y="152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1143000" y="1066680"/>
            <a:ext cx="74296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438280" y="38088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38.gif"/>
          <p:cNvPicPr/>
          <p:nvPr/>
        </p:nvPicPr>
        <p:blipFill>
          <a:blip r:embed="rId2"/>
          <a:stretch/>
        </p:blipFill>
        <p:spPr>
          <a:xfrm>
            <a:off x="1371600" y="2971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38.gif"/>
          <p:cNvPicPr/>
          <p:nvPr/>
        </p:nvPicPr>
        <p:blipFill>
          <a:blip r:embed="rId3"/>
          <a:stretch/>
        </p:blipFill>
        <p:spPr>
          <a:xfrm>
            <a:off x="144792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928800" y="606600"/>
            <a:ext cx="7429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38.gif"/>
          <p:cNvPicPr/>
          <p:nvPr/>
        </p:nvPicPr>
        <p:blipFill>
          <a:blip r:embed="rId2"/>
          <a:stretch/>
        </p:blipFill>
        <p:spPr>
          <a:xfrm>
            <a:off x="1066680" y="22096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38.gif"/>
          <p:cNvPicPr/>
          <p:nvPr/>
        </p:nvPicPr>
        <p:blipFill>
          <a:blip r:embed="rId3"/>
          <a:stretch/>
        </p:blipFill>
        <p:spPr>
          <a:xfrm>
            <a:off x="990720" y="52578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180 Н  Б) 80 Н  В) 360 Н  Г) 240 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38.gif"/>
          <p:cNvPicPr/>
          <p:nvPr/>
        </p:nvPicPr>
        <p:blipFill>
          <a:blip r:embed="rId2"/>
          <a:stretch/>
        </p:blipFill>
        <p:spPr>
          <a:xfrm>
            <a:off x="3048120" y="5410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Два тела масс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находятся друг от друга на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итягиваются с сил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ему равна сила притяжения тел массой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4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, находящихся на том же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Б) 2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Г) 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38.gif"/>
          <p:cNvPicPr/>
          <p:nvPr/>
        </p:nvPicPr>
        <p:blipFill>
          <a:blip r:embed="rId2"/>
          <a:stretch/>
        </p:blipFill>
        <p:spPr>
          <a:xfrm>
            <a:off x="4800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500 Н  Б) 1000 Н  В) 2000 Н  Г) 4000 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38.gif"/>
          <p:cNvPicPr/>
          <p:nvPr/>
        </p:nvPicPr>
        <p:blipFill>
          <a:blip r:embed="rId2"/>
          <a:stretch/>
        </p:blipFill>
        <p:spPr>
          <a:xfrm>
            <a:off x="5029200" y="556272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ие из приведенных утверждений верны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) Сила всемирного тяготения удерживает планеты на их орбитах вокруг Сол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) Если на тело не действует сила тяжести, то тело находится в состоянии невесо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38.gif"/>
          <p:cNvPicPr/>
          <p:nvPr/>
        </p:nvPicPr>
        <p:blipFill>
          <a:blip r:embed="rId2"/>
          <a:stretch/>
        </p:blipFill>
        <p:spPr>
          <a:xfrm>
            <a:off x="8077320" y="243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38.gif"/>
          <p:cNvPicPr/>
          <p:nvPr/>
        </p:nvPicPr>
        <p:blipFill>
          <a:blip r:embed="rId3"/>
          <a:stretch/>
        </p:blipFill>
        <p:spPr>
          <a:xfrm>
            <a:off x="8077320" y="3505320"/>
            <a:ext cx="86652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равен 0       Б) непрерывно измен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постоянен и равен ускорению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) постоянен и много меньше ускорения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38.gif"/>
          <p:cNvPicPr/>
          <p:nvPr/>
        </p:nvPicPr>
        <p:blipFill>
          <a:blip r:embed="rId2"/>
          <a:stretch/>
        </p:blipFill>
        <p:spPr>
          <a:xfrm>
            <a:off x="7162920" y="42670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57200" y="27468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54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